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camera.wav" ContentType="audio/x-wav"/>
  <Override PartName="/ppt/media/image6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</p:sldMasterIdLst>
  <p:sldIdLst>
    <p:sldId id="256" r:id="rId67"/>
    <p:sldId id="257" r:id="rId68"/>
    <p:sldId id="258" r:id="rId69"/>
    <p:sldId id="259" r:id="rId70"/>
    <p:sldId id="260" r:id="rId71"/>
    <p:sldId id="261" r:id="rId72"/>
    <p:sldId id="262" r:id="rId73"/>
    <p:sldId id="263" r:id="rId74"/>
    <p:sldId id="264" r:id="rId75"/>
    <p:sldId id="265" r:id="rId76"/>
    <p:sldId id="266" r:id="rId77"/>
    <p:sldId id="267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" Target="slides/slide1.xml"/><Relationship Id="rId68" Type="http://schemas.openxmlformats.org/officeDocument/2006/relationships/slide" Target="slides/slide2.xml"/><Relationship Id="rId69" Type="http://schemas.openxmlformats.org/officeDocument/2006/relationships/slide" Target="slides/slide3.xml"/><Relationship Id="rId70" Type="http://schemas.openxmlformats.org/officeDocument/2006/relationships/slide" Target="slides/slide4.xml"/><Relationship Id="rId71" Type="http://schemas.openxmlformats.org/officeDocument/2006/relationships/slide" Target="slides/slide5.xml"/><Relationship Id="rId72" Type="http://schemas.openxmlformats.org/officeDocument/2006/relationships/slide" Target="slides/slide6.xml"/><Relationship Id="rId73" Type="http://schemas.openxmlformats.org/officeDocument/2006/relationships/slide" Target="slides/slide7.xml"/><Relationship Id="rId74" Type="http://schemas.openxmlformats.org/officeDocument/2006/relationships/slide" Target="slides/slide8.xml"/><Relationship Id="rId75" Type="http://schemas.openxmlformats.org/officeDocument/2006/relationships/slide" Target="slides/slide9.xml"/><Relationship Id="rId76" Type="http://schemas.openxmlformats.org/officeDocument/2006/relationships/slide" Target="slides/slide10.xml"/><Relationship Id="rId77" Type="http://schemas.openxmlformats.org/officeDocument/2006/relationships/slide" Target="slides/slide11.xml"/><Relationship Id="rId78" Type="http://schemas.openxmlformats.org/officeDocument/2006/relationships/slide" Target="slides/slide12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965-43EC-4FC4-AE13-DA1583B8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069-5F8E-412E-9B48-D686CAF0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D4EDF-F317-439D-9BCC-190E47BD9A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07D64-C7FF-4927-983B-DAA232D51E1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B3C30-9210-4921-9E8F-6D0FC65395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788A8-F4AA-47CC-9010-F4DE7CC452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59459-5BE2-45D9-A503-08F60BC88B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7359E-5675-49CD-9DCA-AF3A6F87BC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BDD8D-54F3-436B-9A68-850F06893D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9494A-A33A-4AD7-8B60-3EC6DFF40A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6DE40-DB3F-41FC-AA0B-71988FDF16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5AF04-BFE9-44EE-9BCE-04085A3F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6C3-A126-459A-AC15-DD7DDE7E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397D1-87D1-4C37-8E2F-67C3DED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05DA1-7BC0-4132-BF8C-282A809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40BA8-CCFB-4E0E-8513-BD2384D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CAEBA-520B-497F-BFD8-979015F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26B6A-D249-4E1F-8C47-05ADB372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E22F2-2D36-43F3-A849-1F3810C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B5311-2933-401A-9852-34BA1F4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B0B15-BB62-40C6-9CB2-165AC39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1C910-37A3-4B26-8C65-002F0848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F3CD7-B0AB-45EE-A20B-B3A7B5BE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C50-A22F-4D49-987F-DA52F81C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5AAC1-2174-4F7E-A57F-6710E628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D47A9B-7323-431E-A997-D96F2028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CC1EA-AB92-4370-B490-6B2B85E0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9EDF01-38B7-4170-9F24-DD53C921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44AD9E-5A7D-4203-B39E-DC257D85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712DC0-02BC-4B12-B149-FFC70D1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C3E116-F602-4EBA-AE07-AF1B3A6B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DDCB86-78E6-4A7D-9600-38EDB2E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926940-D577-411E-9511-3C40EBF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08A5D-3EED-4347-AC04-3239E7B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DC60-2D53-4EFC-9325-4906930A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ADC2E-9B82-4EF2-9E48-8A20CDF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74D478-E69F-429C-AA23-3CB41448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315C85-3C3F-4A2F-AB9C-1B5CE8B1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F5D34-24CD-4457-B018-330C7F9E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8248C-AD36-4E46-AC4A-5D2138B4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2CE61-9B15-41D2-9FB6-807D540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49E77-5913-40B3-A59A-BDE5A4D2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6660D-2D4D-4C97-9E43-3E9A4B70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522F5-0DDE-4BE5-9535-3DDF3FE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CFAC2-435C-4B92-AD3A-19F9067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0EC8-1070-4122-AA4C-8CE2E98B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E336C-02F3-464E-8FA0-FC17AE6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0F0EE-904C-4298-9D00-9BFCA8CC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02960-E245-4E63-85DA-EBB48CDB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466B5-FF7D-4540-BF9D-6D271C0C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98D37-9E36-4CF5-A865-8EC40A3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DFBEC9-E8DF-42C9-8D24-9D95AB14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A3FF23-C9A6-4E0A-B146-081454F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AC0A9D-1F8B-406F-9507-27C04C0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45AAF5-0E49-4D34-A14C-81F7D6C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80D7DE-62E9-49DD-9E05-ED97192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078E-EEF7-432C-BED2-363DBB1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B495B8-DD8C-4938-B512-8BD4807D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19530A-0E7B-4398-A4F2-AC994783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605C91-005F-414A-9F9E-0149426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4315AD-4FC2-4FD3-BFDB-DEFC6A2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250B12-793A-4461-93CF-52327F3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1F3266-897A-427B-929D-51B89DE3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BE9BC-4C36-4A0D-822F-C595C9ED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B78DC2-6AE2-4B24-A139-759B91DD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3991FF-33D5-488D-991C-6506E52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C45368-66A9-4AD7-902A-B509579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6699-3363-4142-AABE-EBC7F1E8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513B89-6FAA-4A15-A740-58041F5D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98C072-3F60-4AA5-B09F-B7202B9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DDFABD-3E7F-4AC0-B9D8-E5C7283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350851-30E5-4E68-96D1-09A5D6A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4E7E1E-D6F8-4EF0-BB35-DD387AA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8308A9-4CCD-4138-AC6B-8017219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D71185-8BA7-485F-B533-F5DDB93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DD295B-E1DF-4224-829F-138E2A6D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57205C-D521-48AB-A455-B511328F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93334C-2E4F-4624-AAEE-7F3F6752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9A3A-08E7-414E-AB5A-A57EA106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B36DA6-5C71-45C1-BE8E-0897C8C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6AF646-B08E-49F2-9FF6-2FF1185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B35C8E-D30E-4493-B164-2F03038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D03194-D1B0-4263-9D83-79925017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03C7A9-7D76-446D-9F86-AFD3A723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6E94F5-0425-4FA4-A170-1C0AD0D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386DA8-1DF8-49D9-842C-DB4663F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6531EF-90DC-4DF7-B855-B727179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577FE2-A0DB-498C-B729-35E420DA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82BDB8-B864-47C8-A8B9-D9462244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7CF0-AE53-49F0-9C3B-C2BA364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0A9A37-DA53-4D65-BBF5-0ACDE937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994209-BFAF-4112-8B78-73FDC3D2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BE8087-1AB8-4001-915E-2C751D51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76F8B7-25D1-42DD-8EE8-4D3C73A9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9A76A3-8077-4D94-8077-15CE4B71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2C78A5-8C5E-4A5F-9E63-76AECD55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4F1C44-C8B7-4294-9177-EC6815AE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4EFF99-D36C-4999-8F86-8DF6BC49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4956E7-25B0-4F24-BF35-A614169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33A841-879A-4F56-B641-FB7D6D2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7D60-F204-48B2-89A2-55BEC85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15F221-6411-475B-9CFF-AB08804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BF04B2-655A-4C3C-930F-60F7DEC7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2F33B8-2F43-4C8F-83A6-D8BDC9C5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256E34-73F8-480F-8D47-09277443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CA6168-617D-43F8-9813-6E36F08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B982DC-AFEC-402E-A930-FD4F1F65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A78A68-6847-4A78-8767-8839C14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F7B975-09FA-41C3-B72A-069E8F16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D3FF97-EF6A-4A9C-9A20-992F2CE3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BF5270-280A-469E-AAA2-24D1B11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7FC-F217-4697-9834-343BDF9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A40E-F85D-4B46-A347-3B97454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426232C-46BD-4BC3-BA29-5CCF546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29604BA-958D-41FF-9E29-7767798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0941B1-9356-40DB-BB82-17A09199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E49237-8466-435B-AB54-A3B75D54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A8B4B0-BE41-4537-8B3F-D85A03BC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173ABE-5A93-4406-B5B5-1450222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12F360-0547-4B52-8F23-01EB2F71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B885EF-16BC-4958-964C-90DA9D9E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E0E508-3FF9-4FF1-9B64-2BC260AF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D7D521-5943-47D8-9619-0974510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8C5B-91FB-414F-BBED-27291FA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EE7BFA-CF6D-403E-A8F9-67AD8DC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424C67-49DE-492F-8865-C7AC09B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069790-03FA-4F66-BA35-B8B32E8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5F0DF6-62CE-4EAC-859D-06F67EF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577A93-CA04-4E48-BD1F-8D26F84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32A44F-4ED8-4AE6-BF71-884DDDE4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F3CD14-624A-494B-ADBF-2832B151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E8BAD38-3108-41B5-B614-BEBCF4D4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5A0E9B-1D33-4053-94FA-710C6827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A4969E-A192-4099-A1EB-E7377E1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2245-F48B-40C8-B334-D659A204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4857E7-4922-42EE-B2A0-94CD949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9061C6-96F4-45CD-9DD7-F91FA2C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673899-6DBE-4F66-92B7-DCF7BAA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77C904-26C0-4936-ADAB-D14ABED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D79D93-C8EA-4589-B693-72F7D04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A5660F-5B89-4E6E-B5D2-A7225BE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B38AE9-0092-447B-BFD1-0A6FF810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648332-BD48-4E0C-B9AF-4B6819D7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11D4F6-51A9-4A53-BDA1-85D75699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8B8D30-0623-481D-A20A-AAF237D7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959-72D3-41A0-811E-8F0A8DB3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203C47-5F31-49B3-8311-6C89D929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8BBB7B-F763-4CF1-B9C3-E6A7822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3A1B88-9885-46C0-A997-9A58DB2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0EEC7C-ACB1-4969-BA6E-756A1258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53764D-5BFE-4A07-B599-27D0D75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AD502E-90DD-4802-BE5A-0AF275A4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A72417-258D-4F43-A77C-C7802F6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A10384-1E09-4C25-AA76-32E7C90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9B8911-F3A5-403D-B226-D0DEF7C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B8E1CB-C564-4342-8065-D6988AB7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7381-73F5-4152-A3A9-9E5F922B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BC1482-CAC3-4C30-B993-AED3D52B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455CD2-D8EE-405D-A460-11E6B91F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EA13C6-4798-4DBB-98AA-E16B4BE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C27F5E-2B5F-4DAC-A93D-859A868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521C55C-90E0-4635-B04E-344848E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BB10FD-02AC-424C-82C0-5026B030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2B51F8B-8B73-4A3D-80DB-47978D95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220DD0-C9FE-45EC-8915-7100789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6A4BB2-8530-4D01-BD12-58FC569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3C327A-378C-4D2C-86C6-E0067A4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3784-D4B0-40AF-9167-C5A63B77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3C18A2-E8D5-421D-A20A-EDE7098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C90692-5AEB-479C-9C2A-796C0000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E43A04-0BC4-4F36-B2B0-56EFC7C5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738740-C1A4-44E7-8759-9C228327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E31947-783E-44EA-8F9A-E045F3E4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A5F9B1A-DABC-4DB5-BF74-EC702351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1D224E-184B-4687-B2A7-0B5083F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1B1D74-5A68-4589-98B0-78E09FB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68E60A-D3B6-4AB0-B332-A188AA34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142D623-6A60-4F2E-AE84-E6A7ECC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0803-004D-4C92-98DE-CBE6D9F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0C5B0C-EAD3-4143-8F36-217BC593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3239AF-886F-425F-BEA2-79FA32C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24D550-CEDF-47CD-B482-D0C54D3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CE602B-C636-4A65-BEBB-0BAFCBF8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E5E41B-9641-4C93-B381-7E8C2A3C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5E05F9-FF22-465C-AB0F-D8396399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9876D73-8FF9-423E-ACEB-CE847E7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F47CD3-8FF4-4641-AFB3-2AA287F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F50E9F-8DC8-4DBD-BF85-47E5AD5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A9D92B-C9F5-4FC9-A843-EDD8FF38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1E12-2B5B-47BD-969C-4FECA27B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F08ACAA-54B7-4A2F-A6C6-5895D0D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D81183-970A-435D-B103-C39A5AE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056F38-8BA8-40BB-AA11-E1A6FFB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B2A93C-0188-47AA-91CF-299BF8B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839AAE1-A6A6-4200-8D14-3EEB6390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9491BDF-D424-48A9-A420-F9F72A8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E63F947-D5ED-4058-97EB-F6D11C43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389E044-2500-4FDF-A3CD-2B46F816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CAD9571-34D7-47F0-A0E8-AB4B5FC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CE15F70-5FDB-44AF-BE6B-6443558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6E45-6544-49BF-9B72-8325ECE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A2AFAA-5540-4607-AC9D-58451E75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B7B4E0-AF09-4E31-BAB9-41FE71F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E3E2DC-FF99-4892-BBB2-D99811B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28A59E-9A57-4A37-9C66-E2489D5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AD13B6-F76B-4963-BEFD-46C8943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F1C2CE-8429-4ACB-9A99-0C1717B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AAC053-8169-47CA-85E7-F8A13AF6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9A59D8-BD7C-4C5F-90BB-C4C4C028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76BA692-29A3-4584-83BB-12B6CB69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A245CC-890F-488F-BD98-F04D37D1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AAB8-88C8-4559-B25B-FA39790D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D63E72-2A6E-48DB-BF31-3842148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9B2DD1-AE8E-4F54-82C2-05DD27E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F715287-D56D-4A7C-AFC3-8F88C64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42A94C-3225-4B2F-9A34-40AEF69F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61A528-A723-448C-8721-90EA6D39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F040EDC-DF75-48EF-83BE-2D92947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C6B8AA-62F0-41D0-8ECA-2C6C1DF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09AD163-35B1-49E1-8FDF-712525B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020611-284D-4B94-85D7-2955EF5E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F2068A8-6EC1-4E58-8735-EE9CA1E9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879-5D0B-4B71-BFE8-24781377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88E1-7303-4834-ACEA-C9377DD4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EAF57BD-B98A-4D89-BDE8-A1214BC2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AE36811-C1DB-46D7-AF26-1E93A6B8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F60EF7-6D4D-4D9A-8ABD-1179AD7D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6770C3-A31B-4279-A3F0-94BACCD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2505DCC-31BF-44DD-AB35-7A0CE458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93916D-A809-488C-B8C8-78EA0E2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FA9A7E-4BD7-41F2-BBD7-6B1F78C6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E25371-89EB-4BF4-B6CE-3B2E398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24DDEB-8E4B-46B9-A28B-A78D8846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54C4F76-5E96-41B7-B826-71ED3E3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D504-AA06-45D9-9FAA-D7C4001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484E32-B844-4FDB-9E5E-37AAA33B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F51F49-4B8F-40E9-956A-EFFD3EE5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D1DA13-3173-4973-8F62-8F60E2EE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E89073-6AE6-4EFA-ABEE-8DD9CA92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82C59B7-F1E5-4C9E-B7F7-6D953EE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FC5518-23D4-4A46-A227-A03F1E06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C459A5-603D-4CE9-B8E1-1118C05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04DE28-7F2C-4311-A5D0-28DCC51E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754B582-944D-4CCB-A986-5484B94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1E441A9-571E-41F0-8941-FAC30F1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38CF-159E-4892-941B-58A8F7C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8C699B-1362-42D5-97E3-B8F20C25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4A06F0-C514-46B0-9487-B1B6B79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A1DC8FD-DC75-4443-A3A3-7552F37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D205BAC-E6B6-4576-8320-981A340B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C1AC559-8C15-44BA-B233-BF895BAB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9336D8-1322-47FD-B207-15E182F9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B4C4D6-B54D-46D9-9AA3-CA981EB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F6BC33-3715-4048-BA89-E6D2E1DE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299B0C-73AA-42D4-8790-89D062B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B22E88E-3832-4E31-B509-773E7E5F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6366-1FE2-46D0-AEC9-9B23A92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9401A7E-A586-4D5D-B2BB-497F038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356BE1A-A96A-42A2-9182-3D29A29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75ADC9-27CB-476B-A94A-59FFDB9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D34193-1982-46A9-AC90-2F51863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D3667F3-D7A2-4F16-AA07-FA98192E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DDB3E2-5387-4E18-9208-CF61A3C0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115ED4-2E76-4FA9-A64B-50881D82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796EB20-9639-40BD-B59B-CFB0C6B1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60CEE68-03E5-4EF5-8284-5DAF4AC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47BF0B0-28FF-4470-9A27-228803F4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74A9-6C8B-41AB-849B-B8E426E6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103E566-70A3-4BBD-A0EE-57D049A6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341CBD4-55E9-4C59-9F50-A804604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79B2B15-C2B0-4C64-8E2E-54F2500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0F5DD6-EC85-4E0E-8E9B-E9A3C67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A1B88BE-BC71-4C6E-8F85-1A561D2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49EC19-26B9-49C9-8FC5-2BAA3E4E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7A734A-A707-42E1-9FDE-3855E08E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C100BC1-FF01-4900-9866-0BBDA2C4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F76A0B4-77F8-4A0D-BF11-9B161070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A913A2F-A287-434C-8421-5734858C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18EB-B5FE-4447-B64C-F9F2625B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425BE69-860E-4D44-9C05-1BDC071E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0524697-8477-4351-BB0E-632C164B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9D0B39-5DDD-4603-A589-9904922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E90525D-DD79-4090-AD7A-B7603A8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036E2D1-B8A5-4908-8381-2B02E1C5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04E9886-4B8E-4DD4-AB53-FD37EB23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2A41C6F-DB85-4D90-AAE6-A2D1A13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AAC4FEB-1654-43AE-9D64-4080580E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28D77DD-EEA7-4487-924E-989182C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A4A50C-F657-4918-A923-BD46EC1D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A5DC-CD87-40E8-B0D4-2E5EAFCE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9E85A64-8865-4098-B4D7-6D70B120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7F4A0AD-85AB-40BA-B794-18950290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A65D149-82B4-4924-BA5F-FB8DCE9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DD57082-AFC5-4B46-95A6-D55A1E5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FE10E68-819A-45A2-9433-8F042A15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FFBDA68-668C-4987-A934-63BE803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916094C-68D1-4EBA-8792-48F25848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3762036-7A9F-43E8-B53A-20BE116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61D3B7A-BA35-4143-B4E2-FF9BAAC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6AED2FB-7777-45CA-9154-F801D5F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47BB-3072-427C-9C61-5AA70723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AEC89BD-BC3C-4A51-A6A6-193B00C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EAB5DF-A18A-4ADB-8E43-D2563AA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ABEE884-3037-4C30-A603-6345F616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EA47150-F1F0-43A9-A772-F06A48B5927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A6187D8-8704-4C9B-8CE7-88D069E3FC7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6DD1855-590D-4A55-BB94-B0CFFF9C669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5AA3F3-C3F1-4CA3-8ECB-6F075FB4925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56CBF69-3209-44D3-9254-A0D9EF05D06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8F147EA-FC01-4EDC-B84F-C82C1244A45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61E92BF-0915-4820-A30B-44F82B77F4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0774-0A61-460D-BDDA-2CD72FA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24A97D1-9859-4B71-995D-CBC8CFEA1EE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EB34AFA-B424-48AD-B278-67C82C44CE7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D363BB4-B61D-4F9D-8F7D-9052E37E93B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EF82CE3-F184-4A67-9140-162A1C257E4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DC270F1-CD0B-4148-A573-7DD235806C0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5E7F1E0-EC37-47C8-B224-8D38525D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A82837D-BDE9-4D21-BB27-3A026628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9E56946-44C2-4383-AEDE-3C4CDC9F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0305DFB-60B8-4420-8326-39B3EA2C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9F28F91-2308-4FF5-80D2-4380CF51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0695-82E7-43FE-96DD-3F1C69C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586D220-CB74-426F-958D-C6993F9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6F8439-23A4-41F6-91A0-FDC2A98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6E6635B-CFF7-40E0-8BF6-94D80CA4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6EAF88B-1E67-48E4-8AF5-CB0E627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3EC357-0ADB-4540-A125-C90BFD6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6005DDB-2A0C-4045-A42F-75664611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1C10D75-AA21-4347-97DD-4DFC7A56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82998F5-3D43-4049-9724-56ABF096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A31B922-B561-4976-83F6-6348225D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556CAAC-BA92-430A-8EB2-AFAB30F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B64-6E21-41E2-9A16-7E61767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34FA-3080-42F2-82E2-1BC0E348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8B12E13-A78C-4189-AE77-4F5D264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0E8BE5-BF6F-4638-A979-1B164151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994296B-A2EB-4F0F-A0FF-AF85B1B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4562454-DFF4-497E-80E5-C449894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40EB62-F86D-44DF-B60B-2CCDDB02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B505669-C8BE-4BBF-A685-F8AFF06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90C64DA-1A11-4F2D-9942-E112280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39E102-FA60-4FF3-A59F-C56D47DB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BA3CCD-3054-49FD-90B2-E1F6F971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EB5151F-6A97-4956-AA7A-E4484EE5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BF77-ADE0-4A21-BE73-30BB209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9240EB-9F26-45E3-9736-1144357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A7BC4F-D73A-4F1E-8986-BE32D5E6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072B619-7595-44DF-BE3E-26F240B2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3F6F019-8C06-4267-A25C-52777694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C51B665-B5D8-4771-93C7-FEDE168D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E3DFE5-36EA-47E3-80AA-AE133DA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2BF8F78-86C6-4CDD-9267-6FC5158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ABB932A-1917-4B00-AE9F-A98E51C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635B3BD-8159-4A3A-A3A5-AA36748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31FAABE-A3AB-4CF5-A693-166D83DE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207A-03F6-4E2A-92EE-F4C90477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43DEC52-3821-440B-84F2-46826B2E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4ED3E9-D796-4DFB-93DF-FFCE4DDA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11CFB6-CE0D-4FE1-906A-AEEDF86F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DE28A22-B506-4E47-9440-9A7E1D60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50E4446-2FF3-4B01-9425-866872D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A64861-DB8C-4F84-BFCC-BB9FF63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A845534-811C-4919-9805-0B0B8886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089AF1A-980E-446B-B48B-E274247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ACB82F2-CF7B-494F-BA85-7D245FA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46D250-CF0E-49FF-B787-5A7C720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C117-C592-434C-B703-443927A8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C8B0A4C-87E3-4904-9957-E6A90685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9803BF1-44D9-4748-A621-FA8EDD3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E5BE6AA-AC53-4D40-8F34-A9DF0A43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CE49B24-D751-485C-87C5-A0AC0AD0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80CA2AD-F882-49F5-813B-1431843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E3D2FDD-BF88-4783-ADA4-C100F35B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D0FF54-606E-4292-9361-08A511F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8131155-4356-46F8-A90E-32DED434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90CAB8E-83CA-4426-B2A1-B366497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75DEDA-7BEA-4453-AAEE-0722822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294A-D6CB-4783-B830-5B4B44E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A46849-D1D1-485E-A85B-CC9DCEC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BDAAB1A-9346-4477-BA31-2AF9AF6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014CA0F-3744-4403-8FE9-8A6AFA24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7DF7257-1590-4FB1-AD08-7DE247AE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09B09F-01A0-449B-AC42-7375C0AC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F14BFA6-65F0-405E-9B99-E19E294D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0CCD61-6453-4772-B503-BF12D94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E853B08-54FB-4B19-B20B-58778D9A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B6E0C8D-C570-495F-A1E4-3AB4A3F0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DC13946-DFBE-4F86-970A-9D93E720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D057-8CCB-468C-8C66-57F0F80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9B16FD-2B62-4B0B-9D8E-8B2FA96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DDF0316-CDDC-4458-95FE-C553AB5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D0209D-CB9F-4D5B-898F-A152743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E81594-1B2C-4659-99E5-3CE5329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5192178-FAAB-47FA-9ED2-86694ED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F97601E-946E-4358-9F0F-F9548BAF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E63F2E-D070-4AFB-A34A-5D325303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E5D1725-9907-4D60-AE49-D3359F72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7C5515-1ECA-40ED-8D7F-FE1DA06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2674250-B497-4B7C-8EC8-F2FDC6D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B38D-CBCE-458C-A1C0-8F5014E8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9664598-2CE8-4F79-B111-F1119E5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C482AFC-EB2F-457D-BCB2-8750A4F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26CD1F9-1D9B-439F-BF55-35A8FB69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13408C6-96CA-43ED-971B-B0635460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BF5434E-E192-4524-B6DA-07379CC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C3F90BA-5DDD-47D0-B784-C5C2FF9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AF87B02-581A-470E-B04A-0780A94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B31F53F-EC23-4653-A610-495C78AF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2887836-1465-4A6E-894A-B2D00AFC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64AD390-C3BA-48C3-9AA5-A61D6F25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ECE6-4BF5-4EEE-85FB-35783F3B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9FEE6B9-E3E2-4ACA-9C63-18A73720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E4A804C-7082-4568-B831-8DD1A369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9EDF21E-2467-418C-96EB-43FEC57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3AEF990-A0A2-45CA-84E9-E92B56F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6040489-55B2-48B4-BE0F-6BFA4DFE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E365C2F-8EA4-4C58-9387-962CEAD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C26899-49B3-4FBB-B1A2-D34F5F2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A8F2EDB-DA87-47EE-9859-63E1429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BA55502-C598-4382-873A-C470663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6381F55-8253-4649-A272-A250FAA1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63E3-D68E-49DC-AE64-2298F8FB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67AAD3E-AD9A-428D-889E-093A5984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01F39D0-E5F0-4804-B9D8-D99A8A00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4D8C8E-3F7A-4577-9171-5B108F85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B5D5DE0-9935-4C3A-AACC-7316AA41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0A6A21A-B288-4665-AD7E-D35B31E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E20BCFB-A0D8-4437-A63B-4CE1CD71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8C2080A-0BF3-4473-8BFE-24C900B4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DDA69AC-C1D6-4637-95A7-FA1FC21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27D7391-75A2-4370-AEF1-A88D8097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6F20C61-7825-4FD1-88EF-4394278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FCED-4410-496C-9D61-954DF0C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1E50C6F-1E86-4114-9F5F-E3B258C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B01E808-6631-4C9E-A57B-655E7F24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F9E571F-7ABE-4D72-BDD5-612652B0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136C8AF-C5A8-4AC8-B4AA-C05ACF46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0FF349-EA0D-42AF-AF46-0DAC2260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AF67355-56C0-4D75-9A50-D7D50695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F454514-9D81-4B67-9D82-27392115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B592E1-992E-4AA5-BC0F-2D0683F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A8D0B85-3218-469A-A37A-5E5CC5B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A6DBBF6-6C47-42FC-BBB1-83E8943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2C8-10D8-4EE3-8051-BCA5816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43F4-D876-4B37-9873-3BA27DCF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5CA4D21-9A3C-4A9C-B730-CB0F35AA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FC00A09-74BA-4E90-AEEF-D019A30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30CBDBC-15BB-4A74-B7BE-99E45ED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E069860-72EF-4C3C-98A7-FA79A7B3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F058C1A-5020-4C7E-8E6B-70B25D59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23940CE-AADD-48D7-8D06-9793E8D5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5247B76-E922-4976-9F9A-8358D983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47DA1F8-996C-4527-BB54-2C1CFFD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B8AEFCF-012A-4982-B009-E9B9F68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CDA55B3-87FC-4CDE-8A91-94B9FC57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FE02-A021-4364-B8DF-9C9B120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61D40D8-76D6-45B8-BEA5-E3D37FB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E318429-1811-42F3-BC65-7F0EFAF9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60876AB-A9CF-4F23-A943-77F8243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168954D-FA25-4127-9759-94F3A7F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7C253D2-E363-4D43-923B-B4EE2672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FF809C7-C59A-41E6-83BA-433DC3BC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8B8183B-DB3B-447B-9299-32DEEC77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72F49A6-7270-4ED2-BFDF-C5399C50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5D6D498-39C6-467B-8C58-85C41C43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028A495-2DD8-4355-8991-5333BEB2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461ED-566F-4884-937E-99B2FCD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A6B5D41-F42D-43ED-BD5D-7470A2C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B6F77D7-8793-4052-989A-7A395874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9924748-D1E4-43AC-8A98-A180D0E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04D8E36-C3CF-4754-BCAD-9507FA4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71D962D-4389-4D67-9B4A-B3D7E40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C0A1248-A0EB-4F33-8212-405A26D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5D4C540-DF29-4E13-968A-FAB8B98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2489881-2354-4C6A-B2DD-D1B0D61E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BB415ED-55B5-41D7-A473-79710829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2EE88DB-FE0A-4958-9C55-FE2AFD8A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9575-AC50-464A-9DAE-6DBC7D23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0315192-52C5-443F-9740-5C34711F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4D6FA51-920C-463A-9C06-704B2C2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06AEA02-FF94-4A26-A319-6AF9122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4BED1F0-D954-49B4-B29D-EBA5D83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CAB9D65-189E-4A38-ADF7-2C25102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0709F5B-9D39-4E3B-A87A-03948F2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107A04F-3EF2-4ACE-82B3-76C0250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3AB6464-BB47-40D1-8AE7-9F89E53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37389FD-73DA-40A1-949F-01104267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89EF1A9-677D-4DFE-A857-7F8F6420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1ABB-CD19-41D3-8017-580E9540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820B322-50D4-4C05-8767-97F2D985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0CB9EA7-BBEE-4FC0-A47D-A5310DBB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CB5DF3B-B9F4-492C-B643-E920B1A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87721E6-02FB-404D-B9C0-972686AA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AAC4900-23F9-4082-A554-06BBEB1D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40025D8-3395-43A9-A702-1C43D4D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E2F03C2-BC64-4CEB-9D48-DB61E9E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F491403-7E53-4FF0-AC1B-10D5E2A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425A8F8-7CE8-4A53-952A-5CBB519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82F406A-6C40-4989-90BB-AB7245D2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C1A6-E28C-4F12-AD33-317726F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1A61DB1-489E-49DD-9FAF-ECDD68CE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FF6C870-5A1F-488B-9205-B4DC9A0A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E5A6D62-2E55-448F-A908-F913D17F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5CB4216-0965-42E1-A0B0-F11B28CC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AD4F8FA-C259-441D-9DB1-A8ECF5F8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CF57362-E49B-4F4D-BE0D-1E6E0E1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3CC3C8B-5F7F-4B7E-8619-799E87B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9DBE58D-3944-43A9-AEF5-AC9E95FA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B63393F-5651-46A1-8D3C-50B9B180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79D4B7E-2DA0-4303-B697-35D705C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0E36-CB7D-40DF-BAF0-EDF2476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04E8952-B98F-4CFD-98B3-D8AF2C9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530FE55-D449-4EBC-996D-44C3816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1DA8658-6715-4A6C-952E-55BEADC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495F158-75D8-4DC0-ABB4-F4E03489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52515FA-3966-4C42-95AC-9506FDF9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055CD55-2FFB-4323-8030-DCAF0A9C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6413D70-AD46-42EB-BF59-863DCC0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E1BF03F-2040-4B8F-819C-75D1F933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E987C9F-29BB-4354-8425-8C9A03C4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BD4E092-1EBD-436B-9DDF-3134A1A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F3EF-5BBB-42F9-A3AB-51D860B9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9DD1576-901D-4DF5-919D-1CC9FED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F53CADD-534F-4986-AE75-5993158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55FE73A-3B8A-48A4-9AD7-EF14EB6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748A547-E82A-4F44-875F-582C1122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BA7E374-80B3-4DBA-B7FA-6F9D808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BC50BE5-83B8-4125-B61E-D665BC25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E6D2318-1FCF-46FA-9517-9AA97507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31A817E-1E50-4167-9C8C-FC5A5CEB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72AF50B-84B6-4CCE-9A8F-D4C0434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F82E2D4-38A8-442F-8B30-4218EA19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860B-EC2D-4988-86DE-44667578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96EB482-35DA-43C8-AD7A-6927705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DA5274C-0A64-48AF-BCFE-5C853968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59EC086-BEBF-4628-A493-EE2BA76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61296CD-4C71-4EC2-8C25-F11CAE4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EF2A541-8F54-4996-B9BD-71929CC4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63238F6-BDD5-4EFF-9CCC-FA0C40C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5236D31-E073-4D6C-A833-97261C66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345658D-1B1B-4851-BEBD-AC84870E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9B646D8-1A00-472E-B2FC-375FBC15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6A287A6-7ABA-4AE1-BA6B-48FFD0CD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968C-C131-48CD-BDA4-EFAC1F67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AC2BDE1-294A-4C3A-8E4D-EC40F4C4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2656A50-E623-49E6-A8DA-903C813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ED679E2-B5CC-4898-80D2-A22731B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D1B94D5-5A85-4156-A84F-C937C3C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F165C9A-357B-4A15-B40A-5F49C21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355E0F6-B780-4381-AB87-1E5D66D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FB9F102-1BE1-4B2C-81FA-4D8A133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023BA48-AF32-475A-BF1E-3F3A499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27162EE-A6DE-410B-8BE8-AD02A8C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36E6F30-09A2-4154-A563-053F6989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F8D-209E-4A1C-8D5E-3B39D30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1C63-BE4C-4756-9664-371F5084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6573539-7120-400D-9BCA-150BBC66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1C22900-B9D1-4277-80AA-E1DF1987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7FEC4CC-24FC-4100-8B9E-B7FB36E4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8927D67-B521-47D7-B1B5-56E1611F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9860A41-965D-42F0-B07B-CDDC117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8FCE5B8-D074-4834-BF8E-C76EB996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9CAC737-5B40-4733-A873-BD5E5099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3C41FEA-CFD2-43A4-8CDD-6A5DC2E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AFAB88D-23F8-4018-ADCD-EC8D846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79DCE85-3D0D-423B-9625-6FD329B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58E3-EC5D-45A9-8F89-82C56529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50362C0-392C-4A84-9B4F-09AEC945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FDF6E26-6AED-4EA1-80E2-904F7B8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2250DDC-0C4C-4A1C-9CD2-BE7D47AE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C840D29-06C7-4FE4-A088-BED32BD5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0CD25F3-4A79-4517-9636-4E94277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E5AB885-20B3-4CB6-A708-1749FF9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27C5FA0-D727-4DE0-AA32-CE3779A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3BBF5E5-19AC-4D86-9BAD-43E9BF4A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31103AF-7C78-4A8E-B48D-5D56245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01C750B-FBAD-442E-AA00-D699854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1DB6-2A94-4EB7-9161-86539F4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C166884-B600-4F09-B8BB-26A5D3E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AD1A3F5-77A7-4198-88A6-F3BC26A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1B6FB2C-A911-4431-8DBB-3FF911C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F4F60AC-C55F-494D-A022-22115DE7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2277A34-072B-457D-9E5F-368F91B1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DEBAEF3-A289-4DFD-B3F3-27DEFDDD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8E9E3C1B-B7D6-44BB-A6A2-DCF6595D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AEFC45B-8A21-4CD7-843B-194CA355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712B04D-52F6-44A6-BA35-D76CF76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65B73EE-F4F3-4AB8-8BE6-5B5A9FD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2FD4-5045-43E3-B477-792EA91E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1DB1C98C-44F5-4ABA-8EDA-084F81BA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B8D8031-46B9-4562-A567-F647AA5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10932DB-753A-41FC-A1C8-4E34651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3A29FED6-DDD2-443A-A7B5-AF9B87C6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B702FF1-6BC6-43AA-AAFE-F168D44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A133F4D-F67D-4C32-BC21-4CB6647F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CB91B2D-65AD-4C5F-8994-05A17C9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E8D2D8A-EB9F-4358-819E-04A690D9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4E48D79-46B9-4A05-B80C-4C7A6851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AE4F321-3330-491A-9B2D-0AFB065F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4833B-28B2-4B92-B3DE-1373E122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E5FEAC6-18F1-4DF9-BFFE-FB2251E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C83EFDA-3E64-4E88-82B0-72F7FA2C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D967D6A-6ED2-469D-BE62-7CA113DD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65AC393-9130-4E1F-8FB4-93CC661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3E9F953-C354-4FD1-AC66-CA3D976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602ED1A-4349-4E8A-9A08-3B9EE73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E41BBBD-9920-4F79-B3F0-F7AB7CFB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53A3117-C4C6-4DE4-89CF-826F173C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689D85E-DD67-4EAE-AE1A-1C0F2FFA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C677DFB0-D486-4399-A0FD-263D4B21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596A3-A5CE-4B3B-BFE5-B973417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FC3EE10F-0D5D-4AFB-90CB-08457046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E48DA1C-90FE-40FD-B041-E8012F7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6144CEC-3295-4105-9A23-D59C164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7D918A13-6787-40C9-8193-6CE5ACA9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F3C556F4-69B8-424A-B448-E01DA02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2437CA64-ABDB-44D3-A384-482775B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63B38FCF-7355-439E-A611-A6D0819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B107D7BC-E466-457F-AF73-8EE7C14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A045A04-1FBD-4496-A469-D3BBEE7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4C9718E-70F7-4202-8676-0613CAE5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BAD63-E320-418B-8522-CC73D0E9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CA723E82-3F61-4F2F-A157-E0A402F8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9D1D960-DACE-42F4-A78E-1B04E88A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3CD40AB-A014-407D-BA4F-9CBEB90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1AB6945-786C-42AD-A06F-854DDA7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AC6EFA6-D610-4EB0-AD18-1162F969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279FBBF-322E-434F-B2A1-51385D2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15BB681-84BA-48B9-8C7C-09E74BF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E02CC89-DDD9-495E-86BE-E6004DB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6CA321F-3053-421E-93A1-D26CE7B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D3F0E42-E7EB-4EDB-9B81-5740367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D36E5-B345-47A9-84DF-A552A8A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FA813BB-2C7E-42BD-94AA-9A252862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C0B4C32-B38A-470D-BC35-595A1138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A8844C0-1906-4C25-BEA3-76ED8C6F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98991D8-C8F2-45B6-80D2-62158C08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38BFE72-5918-47CB-8072-06EBAEF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19E79A2-2884-4FBC-BCC1-0C3D55A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E3B85E4-A9A4-4A36-AF14-4455A3A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EEE9A55-FE3C-445E-A46F-444BE2C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4026C22B-A09C-4825-BF10-4BD00AD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D9198B2-B278-4609-B14E-6621FBB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7FB7-2C90-4FB4-AB60-CCA7908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B166412D-01E0-4DE5-BD17-14A941B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D221A637-3801-41AD-ACFB-D0EF6398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F1107E80-9D09-41B3-92AE-4A2FDBC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8464071-1C5B-4D8C-A68D-63EFC985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EA6867FD-29C6-4EFF-A90E-B10B38B5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43C7F4E-37AF-4AA2-BBAF-768D1F77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5008131-2EA5-4F96-966A-7D0B3591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73F9EA6-F507-4304-B666-D41660B8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6CC540D-A44F-4212-B5DA-C7D18589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E2EB378-ABAE-433C-9230-C7D57CFB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201C0-6618-45FE-B1CC-84A155C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8DFD815-D870-4734-B3EA-938A162B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548F8EA-B2BB-47F2-B565-34C0503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24683E2-671D-4F3E-82AA-44BB0D5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2904DEA-BD8F-488C-B15F-40FF304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FD208A7-CDE6-4074-81E4-5FF9A4D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753B804-68F0-4E18-A434-62D47F31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466B41D-9773-4E28-A905-6AD45A9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9CD5891C-9FAC-4C64-AD63-49A739B4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C81C4AB9-9B8B-47F6-9DE1-3C6C3C9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9F024B45-5205-4FFB-A761-E62946B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724-B26B-41DB-AE77-25755CD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5576-1185-4805-A489-BCB8C5D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65315A1-67B3-49A6-BB20-41735D1A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DB975183-8CA0-48B2-90EC-4DAC728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A01A7EF7-3A92-4EC5-A4F8-2BA17B31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228BEF8-B463-446F-AAD0-273E7B8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F80612AF-AD30-4B6F-B681-99C8D6E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7648A9CB-BC1C-4218-8C75-CF00D68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7D86BD0-E987-4711-82A4-674D99E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F2EF89A-F752-4F99-BD2D-22876970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093F263C-3B6E-4EA7-8AE4-47525CBD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CC98910-616A-4909-87F8-19347266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D889-BA26-4BBB-A5F1-894BD1FC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DAA5D95-2834-44C3-9DBD-F299B1B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98A0345-9E36-4AB6-A8AE-4B81159E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6CC8A99-1174-4A2A-96A0-7E9A6B0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32F5640-EEDE-4FAC-A01D-22B7FB9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D5B1A55-3116-4250-A7C3-3D944E8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CBB3CD4-3F45-4E76-9039-48E2ECF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871CADB-9247-4FFA-BF7A-22CECDE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414F3E6-C047-4C26-8F24-9549568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EEAA780-3682-4BDC-AADD-1F228E8C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CCCA15D-4A28-46BB-A017-6A1F0C7F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8068-A28F-42AE-84CB-1C1EB743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7305E6D-4501-40F7-96E9-5E1AF1EE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9B4B863-CBC2-4B89-ADDD-3D8DED5D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4B89766F-C8CA-46F7-A10F-DADAF01E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473DCB2-2BB9-4CE7-9DCE-F1B7CE9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26865DA6-C31B-4C08-9AFD-C5A2A3E2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85A1C605-B209-4A28-B8B5-4F9695C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91DD1D1D-C020-4F95-AED2-429E67AC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8EE5BDC8-C3D0-4BBE-828E-8B3A054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CCC98B7-2298-47ED-A884-669E14C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401C5B7-3A82-4A45-9F22-FBAF612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3A59-AAFC-43F1-AFB8-1377355A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E4EB8734-E974-441B-85D1-5106A4E5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1477B2C-F42D-4B96-BF18-062CD33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E2A7729-F447-46E0-8262-B036F7EA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EABDA73-D7D4-4469-94AD-BEC7ECDA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7C3FF34-35BD-4C84-90F5-8119E66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7C9CACD6-8C56-4E27-A8B0-593B3CAA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835C9EE-497D-4060-93DF-6B80443F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908A932-EA49-446D-A0D9-654A187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69003C1-A6DE-4F67-8102-126554AE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D109D6A-6EDC-48FF-BAE1-65A3BEB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5847-5267-48F6-BDAD-FA3ABC62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40B06D30-73EA-44BA-B4AF-78D67D7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ACCE0A8-9B1E-43B6-A8D8-E332003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B1145B2-AD9B-4431-8E2B-DCF9024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BE505C0-EA19-4131-BF74-CFA111D9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CBBBBCF-3EA8-4490-B6F2-E5D87F38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75CD867-FB48-4BD2-AF1F-FC78756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11A6A6A-6E4C-4149-9E0F-7B77E066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377DBE2-428C-4C25-BDE0-60A8C74C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405F3DC-BB39-4F8B-9CBE-FDCC1B7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E43598A-1448-439E-9898-07BAE665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D405-CC24-4285-A3A7-1ACFD4AB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EC0D88D4-C070-4BC5-9323-716B0388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21494CA-075F-4745-B214-66C8E33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08BC0AE-36D7-4B29-B915-093AF2B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481F33F-7488-4965-B288-388807B8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108EBA5-8675-419E-8E55-D5BFB098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CC30040-C866-4E3F-BB00-4057520B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C1ED006-7792-40A1-8999-F89C9136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3225D6E-CD19-4EB1-8796-1804012E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939C8CA-F8BA-49CD-86B5-FFD92DF2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EDB0556-0818-45F6-8023-AECD74C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43C3-CF5D-4607-AAC5-775C432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C117FBA-0FDB-4E1A-9D08-C725C55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4DD1719-050D-4C82-9138-5B4996C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99AEC2A-E358-4394-9601-08A67A1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FC58872-5C61-4930-B672-8E6FAB6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7EA009F-60EE-47A8-AF8A-D13D1BB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63F627F-9629-4FDF-8429-46F7D55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39C3E7B-E238-4264-80E2-8A498BEC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07531BA-D352-48DB-B6E2-F4C2DF5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5ACA3F0-9A41-421E-A90A-0BDA689E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81FEE0C-79B1-4B04-A590-43E9DD03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8A70-52C6-4BE9-9E5F-9988D82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334E6C8-94F2-41DC-96F4-96F9BB8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7E68F61-2865-46C0-B990-D7411DA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3A5F6B2E-734B-4ADE-836C-51EF1A8A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712E9B9-5705-4F05-98B0-9883EED0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C8D8326-C960-4C59-9B55-040F98D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2C00119-2982-4BC7-B706-045D61D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B8357C2-D934-4487-90E0-64A54EB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F7CE8FA-F247-458C-91D7-B4AC3379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0DA0157-D0FA-4EDF-B8B0-56CA5920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1725A5D-5856-4934-95B6-EB0DBA81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B9BE-16EE-42C7-9277-32CABCD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0B94B59-E5CC-4695-9382-A01889E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9CDF-4D98-4EAB-B60C-9E5E5DB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F15-4BE9-4710-A775-F0753EE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A83F-4BA1-427E-BF1D-846B3B0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B7B8-59EF-4048-AA46-120FB8F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0F75-CC48-45C2-AF55-D539F63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83A1-CED9-42AB-9131-BC814E7A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3B456-D2AE-4362-9B70-407443B3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8757B-ED9A-4ADF-899E-60BD3ACC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CF13-EBE6-4346-883B-ECD2257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7FC53-1877-4D88-B461-F67A0F0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3FFBE-16C0-4C40-A794-9AE89ED7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AA34D-1DAF-46BB-8D15-C2F4B54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383-6219-4EBE-A806-B66F4A7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54D61-3822-41C3-8679-F18102BA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A6C5-51DF-4C51-BF54-2C15834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683ED-2F35-4FC1-BB65-ED47D46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F7C5-37B4-486C-80AC-8D22B5F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C592-2DCB-4703-88CA-FA01C4B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4485-D427-4AAE-A2FA-15C736DF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66D5-90A1-4338-BD71-9D41895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CEB7F-B24C-4EA9-95A2-11DAC85360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B455C-54F0-43F3-B499-6471075508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418A1-2A94-48B8-B96E-43E652CC2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130-F548-44C8-8E03-C88F9079F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AAD-35BC-492C-A95C-ABCA2269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D0D-0624-41E0-945E-4A3441BE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716-E868-4EE8-81B2-D25EE6B39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390-CB29-4CF1-AE8A-91014E643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FD2A-BD86-4A87-B4E6-D0D505D12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DB35-5899-4E7E-BDEA-4791B236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C06-0DC5-457D-9795-213333962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6A5-11C1-4C43-B4CA-607C7613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AD9-611F-4738-B435-6F8D79464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D829-948A-48EF-848D-646D4D816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7856-FF2C-47CF-A75E-BCBBB3FDA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C760-C814-47F1-8752-423B8AA9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1CA2-97D4-451E-9B5D-4E648867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2DD8-C697-4DAF-A594-AC24C630E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503-F93B-4BCD-B929-9B7F75C2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C2B-5705-4161-A6A4-AD80D4B3E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1C3F-E4CA-42F2-9F09-874259FD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9AE7-06A1-4B94-B4AC-59E59D603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34B-4028-46C6-A26E-9D637AB0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427-678C-47EF-B343-812A2BB7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494-3EE9-4278-AC39-E78A4CF7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5846-5EE3-4C66-AF68-F6BA4BD6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087-119D-4EE5-A5D4-EC53CE9C8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0E5-D384-4F14-B2CB-278DA2C4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sldNum" idx="92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94AE6D5-06D7-4DE0-85D2-26151A087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819-7BAE-4CBF-A88B-95BC5D3E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9D9-87C4-4DD8-8F13-12D3F3EA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1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F00-65D2-47FA-BCA3-F36DE883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1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1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BF53-7FC0-4AFF-B909-FEF15F2BF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 type="dt" idx="1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 type="sldNum" idx="1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68D-F1E2-4310-A700-CDAF1298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B02F-84E1-4626-9BD2-359C6A261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697-C0DA-409C-928B-09B8D495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01F-0CD2-43F3-9132-C74AB633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12C-3066-4F1B-8E09-F8C68A1EF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A8B2-587F-4696-931B-2A07CECC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EA2-B9B2-46C6-B294-65EC68AE3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878-1B4E-4791-AEBD-1DF8E31C9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dt" idx="1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ftr" idx="1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 type="sldNum" idx="1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6D62-9A7A-4001-8002-873B73DB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 type="ftr" idx="1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 type="sldNum" idx="1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A023-F75C-4AA5-8876-D14515473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 type="dt" idx="1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 type="ftr" idx="1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 type="sldNum" idx="1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54F-30EA-4C81-801A-4D46F7510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 type="ftr" idx="1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 type="sldNum" idx="1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472-B83A-46D4-A86C-626D04DF2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 type="dt" idx="1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 type="ftr" idx="1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 type="sldNum" idx="1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5B45-5618-4613-BFBE-D015AC2EB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4CE-CCA4-4DB8-9D92-A3BEBF944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DE11-1A92-43B6-BF97-E2A52AB9A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 type="dt" idx="1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 type="ftr" idx="1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 type="sldNum" idx="1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14F0-5F63-4F55-BD61-F33D968C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dt" idx="1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ftr" idx="1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 type="sldNum" idx="1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BA2-AA40-422F-A1FD-CD10AB6B7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 type="dt" idx="1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D2B9-633D-4CCE-9596-B239ACA5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 type="ftr" idx="1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 type="sldNum" idx="1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A90-7EFE-43ED-B047-ECF6AAC5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1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1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1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1BC-9BE8-4887-B72B-5684F4A42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dt" idx="1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 type="ftr" idx="1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 type="sldNum" idx="1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67F-1D8D-4E26-9653-4C052100C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 type="dt" idx="1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 type="ftr" idx="1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 type="sldNum" idx="1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7CF-0FCF-4415-8B77-6B5CDA94E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dt" idx="1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ftr" idx="1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 type="sldNum" idx="1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AE7-FED3-4DE9-934F-FE027304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4DDA-1A4A-4824-A476-F4E27EDB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 type="dt" idx="1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 type="ftr" idx="1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 type="sldNum" idx="1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31C6-F228-4EAA-B75F-BC7384D63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55D-4C21-4E57-AF69-E0C6EA0F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dt" idx="1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ftr" idx="1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sldNum" idx="1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77D9-CF1A-4EF2-B513-A65A08530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 type="dt" idx="1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 type="ftr" idx="1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 type="sldNum" idx="1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AEC-3341-41AC-B866-1698A48A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 type="dt" idx="1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 type="ftr" idx="1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 type="sldNum" idx="1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0CB-A814-48CB-AE96-0F24AF01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 type="dt" idx="1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 type="ftr" idx="1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 type="sldNum" idx="1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FC0E-1DA9-4254-9C63-1F60B31D2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 type="dt" idx="1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 type="ftr" idx="1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5"/>
          <p:cNvSpPr>
            <a:spLocks noGrp="1"/>
          </p:cNvSpPr>
          <p:nvPr>
            <p:ph type="sldNum" idx="1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B53A-B2E7-46CC-8C4B-041C6AC76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9A4-E673-4BD5-8BF8-E164AB1EE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5CD1-94CE-4444-B17C-2B7D9637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pj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217-ED14-4F37-B415-FABBCA33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5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BA65C48-605B-43C6-B39E-626B7CE242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方向与位置（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6" name=""/>
          <p:cNvGraphicFramePr/>
          <p:nvPr/>
        </p:nvGraphicFramePr>
        <p:xfrm>
          <a:off x="4716360" y="1270080"/>
          <a:ext cx="3741840" cy="4127400"/>
        </p:xfrm>
        <a:graphic>
          <a:graphicData uri="http://schemas.openxmlformats.org/drawingml/2006/table">
            <a:tbl>
              <a:tblPr/>
              <a:tblGrid>
                <a:gridCol w="468360"/>
                <a:gridCol w="482760"/>
                <a:gridCol w="425520"/>
                <a:gridCol w="493560"/>
                <a:gridCol w="473040"/>
                <a:gridCol w="461880"/>
                <a:gridCol w="466920"/>
                <a:gridCol w="46980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7" name="灯片编号占位符 3"/>
          <p:cNvSpPr/>
          <p:nvPr/>
        </p:nvSpPr>
        <p:spPr>
          <a:xfrm>
            <a:off x="723600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  <a:ea typeface="Times New Roman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fld id="{76297884-F864-4197-AC32-C0A0757E69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169"/>
          <p:cNvSpPr/>
          <p:nvPr/>
        </p:nvSpPr>
        <p:spPr>
          <a:xfrm flipV="1">
            <a:off x="5191200" y="4149720"/>
            <a:ext cx="461880" cy="12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170"/>
          <p:cNvSpPr/>
          <p:nvPr/>
        </p:nvSpPr>
        <p:spPr>
          <a:xfrm flipV="1">
            <a:off x="5651640" y="371772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71"/>
          <p:cNvSpPr/>
          <p:nvPr/>
        </p:nvSpPr>
        <p:spPr>
          <a:xfrm flipV="1">
            <a:off x="7047000" y="2114280"/>
            <a:ext cx="1260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72"/>
          <p:cNvSpPr/>
          <p:nvPr/>
        </p:nvSpPr>
        <p:spPr>
          <a:xfrm flipH="1" flipV="1">
            <a:off x="6082920" y="1269720"/>
            <a:ext cx="10098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Oval 173"/>
          <p:cNvSpPr/>
          <p:nvPr/>
        </p:nvSpPr>
        <p:spPr>
          <a:xfrm>
            <a:off x="5148360" y="5302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Oval 174"/>
          <p:cNvSpPr/>
          <p:nvPr/>
        </p:nvSpPr>
        <p:spPr>
          <a:xfrm>
            <a:off x="558000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Oval 175"/>
          <p:cNvSpPr/>
          <p:nvPr/>
        </p:nvSpPr>
        <p:spPr>
          <a:xfrm>
            <a:off x="702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Oval 176"/>
          <p:cNvSpPr/>
          <p:nvPr/>
        </p:nvSpPr>
        <p:spPr>
          <a:xfrm>
            <a:off x="6948360" y="2060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Oval 177"/>
          <p:cNvSpPr/>
          <p:nvPr/>
        </p:nvSpPr>
        <p:spPr>
          <a:xfrm>
            <a:off x="6012000" y="119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 Box 178"/>
          <p:cNvSpPr/>
          <p:nvPr/>
        </p:nvSpPr>
        <p:spPr>
          <a:xfrm>
            <a:off x="5463360" y="52578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明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 Box 179"/>
          <p:cNvSpPr/>
          <p:nvPr/>
        </p:nvSpPr>
        <p:spPr>
          <a:xfrm>
            <a:off x="5811480" y="422100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商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 Box 180"/>
          <p:cNvSpPr/>
          <p:nvPr/>
        </p:nvSpPr>
        <p:spPr>
          <a:xfrm>
            <a:off x="7364880" y="3573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强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Text Box 181"/>
          <p:cNvSpPr/>
          <p:nvPr/>
        </p:nvSpPr>
        <p:spPr>
          <a:xfrm>
            <a:off x="7293600" y="191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卫生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Text Box 182"/>
          <p:cNvSpPr/>
          <p:nvPr/>
        </p:nvSpPr>
        <p:spPr>
          <a:xfrm>
            <a:off x="6183000" y="7621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未知"/>
          <p:cNvSpPr/>
          <p:nvPr/>
        </p:nvSpPr>
        <p:spPr>
          <a:xfrm>
            <a:off x="5178600" y="5118120"/>
            <a:ext cx="114120" cy="12600"/>
          </a:xfrm>
          <a:custGeom>
            <a:avLst/>
            <a:gdLst>
              <a:gd name="textAreaLeft" fmla="*/ 0 w 114120"/>
              <a:gd name="textAreaRight" fmla="*/ 114480 w 1141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60" y="3240"/>
                  <a:pt x="18039" y="1836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未知"/>
          <p:cNvSpPr/>
          <p:nvPr/>
        </p:nvSpPr>
        <p:spPr>
          <a:xfrm>
            <a:off x="5654520" y="3919680"/>
            <a:ext cx="206640" cy="153720"/>
          </a:xfrm>
          <a:custGeom>
            <a:avLst/>
            <a:gdLst>
              <a:gd name="textAreaLeft" fmla="*/ 0 w 206640"/>
              <a:gd name="textAreaRight" fmla="*/ 207000 w 20664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88" y="3555"/>
                  <a:pt x="18011" y="18044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未知"/>
          <p:cNvSpPr/>
          <p:nvPr/>
        </p:nvSpPr>
        <p:spPr>
          <a:xfrm>
            <a:off x="6918480" y="1933560"/>
            <a:ext cx="141120" cy="25560"/>
          </a:xfrm>
          <a:custGeom>
            <a:avLst/>
            <a:gdLst>
              <a:gd name="textAreaLeft" fmla="*/ 0 w 141120"/>
              <a:gd name="textAreaRight" fmla="*/ 141480 w 141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3567" y="17912"/>
                  <a:pt x="18032" y="3687"/>
                  <a:pt x="216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186"/>
          <p:cNvSpPr/>
          <p:nvPr/>
        </p:nvSpPr>
        <p:spPr>
          <a:xfrm>
            <a:off x="4659480" y="4572000"/>
            <a:ext cx="64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187"/>
          <p:cNvSpPr/>
          <p:nvPr/>
        </p:nvSpPr>
        <p:spPr>
          <a:xfrm>
            <a:off x="5726160" y="3429000"/>
            <a:ext cx="64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188"/>
          <p:cNvSpPr/>
          <p:nvPr/>
        </p:nvSpPr>
        <p:spPr>
          <a:xfrm>
            <a:off x="6672240" y="1486080"/>
            <a:ext cx="64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Text Box 189"/>
          <p:cNvSpPr/>
          <p:nvPr/>
        </p:nvSpPr>
        <p:spPr>
          <a:xfrm>
            <a:off x="5441760" y="465444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90"/>
          <p:cNvSpPr/>
          <p:nvPr/>
        </p:nvSpPr>
        <p:spPr>
          <a:xfrm>
            <a:off x="6330600" y="38098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191"/>
          <p:cNvSpPr/>
          <p:nvPr/>
        </p:nvSpPr>
        <p:spPr>
          <a:xfrm>
            <a:off x="7099200" y="270972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Text Box 192"/>
          <p:cNvSpPr/>
          <p:nvPr/>
        </p:nvSpPr>
        <p:spPr>
          <a:xfrm>
            <a:off x="6559200" y="10666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193"/>
          <p:cNvSpPr/>
          <p:nvPr/>
        </p:nvSpPr>
        <p:spPr>
          <a:xfrm>
            <a:off x="4211280" y="5302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194"/>
          <p:cNvSpPr/>
          <p:nvPr/>
        </p:nvSpPr>
        <p:spPr>
          <a:xfrm>
            <a:off x="4191840" y="479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Text Box 195"/>
          <p:cNvSpPr/>
          <p:nvPr/>
        </p:nvSpPr>
        <p:spPr>
          <a:xfrm>
            <a:off x="500616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Text Box 196"/>
          <p:cNvSpPr/>
          <p:nvPr/>
        </p:nvSpPr>
        <p:spPr>
          <a:xfrm>
            <a:off x="419184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Text Box 197"/>
          <p:cNvSpPr/>
          <p:nvPr/>
        </p:nvSpPr>
        <p:spPr>
          <a:xfrm>
            <a:off x="558252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Text Box 198"/>
          <p:cNvSpPr/>
          <p:nvPr/>
        </p:nvSpPr>
        <p:spPr>
          <a:xfrm>
            <a:off x="419184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Text Box 199"/>
          <p:cNvSpPr/>
          <p:nvPr/>
        </p:nvSpPr>
        <p:spPr>
          <a:xfrm>
            <a:off x="5942880" y="5654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Text Box 200"/>
          <p:cNvSpPr/>
          <p:nvPr/>
        </p:nvSpPr>
        <p:spPr>
          <a:xfrm>
            <a:off x="637452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Text Box 201"/>
          <p:cNvSpPr/>
          <p:nvPr/>
        </p:nvSpPr>
        <p:spPr>
          <a:xfrm>
            <a:off x="4142520" y="350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Text Box 202"/>
          <p:cNvSpPr/>
          <p:nvPr/>
        </p:nvSpPr>
        <p:spPr>
          <a:xfrm>
            <a:off x="41425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Text Box 203"/>
          <p:cNvSpPr/>
          <p:nvPr/>
        </p:nvSpPr>
        <p:spPr>
          <a:xfrm>
            <a:off x="687924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204"/>
          <p:cNvSpPr/>
          <p:nvPr/>
        </p:nvSpPr>
        <p:spPr>
          <a:xfrm>
            <a:off x="738252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205"/>
          <p:cNvSpPr/>
          <p:nvPr/>
        </p:nvSpPr>
        <p:spPr>
          <a:xfrm>
            <a:off x="4142520" y="270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206"/>
          <p:cNvSpPr/>
          <p:nvPr/>
        </p:nvSpPr>
        <p:spPr>
          <a:xfrm>
            <a:off x="414252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 Box 207"/>
          <p:cNvSpPr/>
          <p:nvPr/>
        </p:nvSpPr>
        <p:spPr>
          <a:xfrm>
            <a:off x="789156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208"/>
          <p:cNvSpPr/>
          <p:nvPr/>
        </p:nvSpPr>
        <p:spPr>
          <a:xfrm>
            <a:off x="831924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209"/>
          <p:cNvSpPr/>
          <p:nvPr/>
        </p:nvSpPr>
        <p:spPr>
          <a:xfrm>
            <a:off x="4213800" y="1917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210"/>
          <p:cNvSpPr/>
          <p:nvPr/>
        </p:nvSpPr>
        <p:spPr>
          <a:xfrm>
            <a:off x="4213800" y="1486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211"/>
          <p:cNvSpPr/>
          <p:nvPr/>
        </p:nvSpPr>
        <p:spPr>
          <a:xfrm>
            <a:off x="4216320" y="1125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212"/>
          <p:cNvSpPr/>
          <p:nvPr/>
        </p:nvSpPr>
        <p:spPr>
          <a:xfrm>
            <a:off x="1965960" y="114300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请说出图中个点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213"/>
          <p:cNvSpPr/>
          <p:nvPr/>
        </p:nvSpPr>
        <p:spPr>
          <a:xfrm>
            <a:off x="457200" y="2286000"/>
            <a:ext cx="350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小明家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    商店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强家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卫生室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学校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1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1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10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1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1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10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1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1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1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Text Box 214"/>
          <p:cNvSpPr/>
          <p:nvPr/>
        </p:nvSpPr>
        <p:spPr>
          <a:xfrm>
            <a:off x="2679120" y="10666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说出小明上学的行走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215"/>
          <p:cNvSpPr/>
          <p:nvPr/>
        </p:nvSpPr>
        <p:spPr>
          <a:xfrm>
            <a:off x="1143000" y="190512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小明从家向北偏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到商店，然后向北偏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行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到小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然后向北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到卫生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然后向北偏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到达学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5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4" name="Text Box 3"/>
          <p:cNvSpPr/>
          <p:nvPr/>
        </p:nvSpPr>
        <p:spPr>
          <a:xfrm>
            <a:off x="3419640" y="112536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早晨起来，面向太阳，         前面是东，后面是西，  左面是北，右面是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Text Box 4"/>
          <p:cNvSpPr/>
          <p:nvPr/>
        </p:nvSpPr>
        <p:spPr>
          <a:xfrm>
            <a:off x="324000" y="-747720"/>
            <a:ext cx="1512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宋体"/>
              </a:rPr>
              <a:t>生活中的方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Line 2"/>
          <p:cNvSpPr/>
          <p:nvPr/>
        </p:nvSpPr>
        <p:spPr>
          <a:xfrm>
            <a:off x="2666880" y="3200400"/>
            <a:ext cx="36576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3"/>
          <p:cNvSpPr/>
          <p:nvPr/>
        </p:nvSpPr>
        <p:spPr>
          <a:xfrm>
            <a:off x="4495680" y="1523880"/>
            <a:ext cx="0" cy="3429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4"/>
          <p:cNvSpPr/>
          <p:nvPr/>
        </p:nvSpPr>
        <p:spPr>
          <a:xfrm flipV="1">
            <a:off x="3048120" y="1980720"/>
            <a:ext cx="2819160" cy="2514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5"/>
          <p:cNvSpPr/>
          <p:nvPr/>
        </p:nvSpPr>
        <p:spPr>
          <a:xfrm>
            <a:off x="3124080" y="2057400"/>
            <a:ext cx="2819520" cy="23623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6"/>
          <p:cNvSpPr/>
          <p:nvPr/>
        </p:nvSpPr>
        <p:spPr>
          <a:xfrm>
            <a:off x="990720" y="2743200"/>
            <a:ext cx="167616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Rectangle 7"/>
          <p:cNvSpPr/>
          <p:nvPr/>
        </p:nvSpPr>
        <p:spPr>
          <a:xfrm>
            <a:off x="6324480" y="2819520"/>
            <a:ext cx="167652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Rectangle 8"/>
          <p:cNvSpPr/>
          <p:nvPr/>
        </p:nvSpPr>
        <p:spPr>
          <a:xfrm>
            <a:off x="3657600" y="685800"/>
            <a:ext cx="167652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9"/>
          <p:cNvSpPr/>
          <p:nvPr/>
        </p:nvSpPr>
        <p:spPr>
          <a:xfrm>
            <a:off x="3657600" y="4952880"/>
            <a:ext cx="167652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Rectangle 10"/>
          <p:cNvSpPr/>
          <p:nvPr/>
        </p:nvSpPr>
        <p:spPr>
          <a:xfrm rot="2197800">
            <a:off x="1805040" y="1209240"/>
            <a:ext cx="144792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11"/>
          <p:cNvSpPr/>
          <p:nvPr/>
        </p:nvSpPr>
        <p:spPr>
          <a:xfrm rot="2197800">
            <a:off x="5813280" y="4427280"/>
            <a:ext cx="144792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Rectangle 12"/>
          <p:cNvSpPr/>
          <p:nvPr/>
        </p:nvSpPr>
        <p:spPr>
          <a:xfrm rot="8401800">
            <a:off x="5731920" y="1114560"/>
            <a:ext cx="15238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Rectangle 13"/>
          <p:cNvSpPr/>
          <p:nvPr/>
        </p:nvSpPr>
        <p:spPr>
          <a:xfrm rot="8401800">
            <a:off x="1725480" y="4497120"/>
            <a:ext cx="144792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Text Box 14"/>
          <p:cNvSpPr/>
          <p:nvPr/>
        </p:nvSpPr>
        <p:spPr>
          <a:xfrm rot="2248800">
            <a:off x="5972760" y="4326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东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Text Box 15"/>
          <p:cNvSpPr/>
          <p:nvPr/>
        </p:nvSpPr>
        <p:spPr>
          <a:xfrm>
            <a:off x="4113720" y="487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Text Box 16"/>
          <p:cNvSpPr/>
          <p:nvPr/>
        </p:nvSpPr>
        <p:spPr>
          <a:xfrm>
            <a:off x="1481400" y="2514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Text Box 17"/>
          <p:cNvSpPr/>
          <p:nvPr/>
        </p:nvSpPr>
        <p:spPr>
          <a:xfrm>
            <a:off x="411372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Text Box 18"/>
          <p:cNvSpPr/>
          <p:nvPr/>
        </p:nvSpPr>
        <p:spPr>
          <a:xfrm>
            <a:off x="6815520" y="2620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Text Box 19"/>
          <p:cNvSpPr/>
          <p:nvPr/>
        </p:nvSpPr>
        <p:spPr>
          <a:xfrm rot="2248800">
            <a:off x="1972440" y="1126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西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Text Box 20"/>
          <p:cNvSpPr/>
          <p:nvPr/>
        </p:nvSpPr>
        <p:spPr>
          <a:xfrm rot="19255200">
            <a:off x="5956920" y="1051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东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Text Box 21"/>
          <p:cNvSpPr/>
          <p:nvPr/>
        </p:nvSpPr>
        <p:spPr>
          <a:xfrm rot="19255200">
            <a:off x="1956600" y="44805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西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Arc 22"/>
          <p:cNvSpPr/>
          <p:nvPr/>
        </p:nvSpPr>
        <p:spPr>
          <a:xfrm>
            <a:off x="4932360" y="2852640"/>
            <a:ext cx="14436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Text Box 23"/>
          <p:cNvSpPr/>
          <p:nvPr/>
        </p:nvSpPr>
        <p:spPr>
          <a:xfrm>
            <a:off x="5219640" y="256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24"/>
          <p:cNvSpPr/>
          <p:nvPr/>
        </p:nvSpPr>
        <p:spPr>
          <a:xfrm>
            <a:off x="4320" y="1557360"/>
            <a:ext cx="729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宋体"/>
              </a:rPr>
              <a:t>地图上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2"/>
          <p:cNvSpPr/>
          <p:nvPr/>
        </p:nvSpPr>
        <p:spPr>
          <a:xfrm>
            <a:off x="4500720" y="765000"/>
            <a:ext cx="4643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学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小明家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北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东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向上，距离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00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Rectangle 3"/>
          <p:cNvSpPr/>
          <p:nvPr/>
        </p:nvSpPr>
        <p:spPr>
          <a:xfrm>
            <a:off x="5364000" y="3716280"/>
            <a:ext cx="35276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书店在小明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向上，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离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Rectangle 4"/>
          <p:cNvSpPr/>
          <p:nvPr/>
        </p:nvSpPr>
        <p:spPr>
          <a:xfrm>
            <a:off x="5990040" y="4373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Rectangle 5"/>
          <p:cNvSpPr/>
          <p:nvPr/>
        </p:nvSpPr>
        <p:spPr>
          <a:xfrm>
            <a:off x="7847280" y="4419720"/>
            <a:ext cx="72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Rectangle 6"/>
          <p:cNvSpPr/>
          <p:nvPr/>
        </p:nvSpPr>
        <p:spPr>
          <a:xfrm>
            <a:off x="6910560" y="5661000"/>
            <a:ext cx="76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Rectangle 7"/>
          <p:cNvSpPr/>
          <p:nvPr/>
        </p:nvSpPr>
        <p:spPr>
          <a:xfrm>
            <a:off x="6985080" y="4365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5" name="Group 8"/>
          <p:cNvGrpSpPr/>
          <p:nvPr/>
        </p:nvGrpSpPr>
        <p:grpSpPr>
          <a:xfrm>
            <a:off x="203400" y="907920"/>
            <a:ext cx="5076360" cy="5210280"/>
            <a:chOff x="203400" y="907920"/>
            <a:chExt cx="5076360" cy="5210280"/>
          </a:xfrm>
        </p:grpSpPr>
        <p:pic>
          <p:nvPicPr>
            <p:cNvPr id="2696" name="Picture 9" descr="p-18-1 拷贝"/>
            <p:cNvPicPr/>
            <p:nvPr/>
          </p:nvPicPr>
          <p:blipFill>
            <a:blip r:embed="rId1"/>
            <a:stretch/>
          </p:blipFill>
          <p:spPr>
            <a:xfrm>
              <a:off x="233280" y="907920"/>
              <a:ext cx="4599000" cy="46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7" name="Rectangle 10"/>
            <p:cNvSpPr/>
            <p:nvPr/>
          </p:nvSpPr>
          <p:spPr>
            <a:xfrm>
              <a:off x="2476800" y="11224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Rectangle 11"/>
            <p:cNvSpPr/>
            <p:nvPr/>
          </p:nvSpPr>
          <p:spPr>
            <a:xfrm>
              <a:off x="2476800" y="5597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12"/>
            <p:cNvSpPr/>
            <p:nvPr/>
          </p:nvSpPr>
          <p:spPr>
            <a:xfrm>
              <a:off x="203400" y="33433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Rectangle 13"/>
            <p:cNvSpPr/>
            <p:nvPr/>
          </p:nvSpPr>
          <p:spPr>
            <a:xfrm>
              <a:off x="4823280" y="3387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14"/>
            <p:cNvSpPr/>
            <p:nvPr/>
          </p:nvSpPr>
          <p:spPr>
            <a:xfrm>
              <a:off x="1003680" y="167328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游泳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Rectangle 15"/>
            <p:cNvSpPr/>
            <p:nvPr/>
          </p:nvSpPr>
          <p:spPr>
            <a:xfrm>
              <a:off x="3747600" y="18399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学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Rectangle 16"/>
            <p:cNvSpPr/>
            <p:nvPr/>
          </p:nvSpPr>
          <p:spPr>
            <a:xfrm>
              <a:off x="3728520" y="453240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书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17"/>
            <p:cNvSpPr/>
            <p:nvPr/>
          </p:nvSpPr>
          <p:spPr>
            <a:xfrm>
              <a:off x="528120" y="485928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邮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Rectangle 18"/>
            <p:cNvSpPr/>
            <p:nvPr/>
          </p:nvSpPr>
          <p:spPr>
            <a:xfrm>
              <a:off x="1377000" y="313848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小明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Rectangle 19"/>
            <p:cNvSpPr/>
            <p:nvPr/>
          </p:nvSpPr>
          <p:spPr>
            <a:xfrm rot="17890200">
              <a:off x="2751120" y="251640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7" name="Arc 20"/>
          <p:cNvSpPr/>
          <p:nvPr/>
        </p:nvSpPr>
        <p:spPr>
          <a:xfrm>
            <a:off x="2714760" y="3068640"/>
            <a:ext cx="215640" cy="71280"/>
          </a:xfrm>
          <a:custGeom>
            <a:avLst/>
            <a:gdLst>
              <a:gd name="textAreaLeft" fmla="*/ 0 w 215640"/>
              <a:gd name="textAreaRight" fmla="*/ 216000 w 2156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Rectangle 21"/>
          <p:cNvSpPr/>
          <p:nvPr/>
        </p:nvSpPr>
        <p:spPr>
          <a:xfrm rot="17013000">
            <a:off x="2911320" y="3421800"/>
            <a:ext cx="8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22"/>
          <p:cNvSpPr/>
          <p:nvPr/>
        </p:nvSpPr>
        <p:spPr>
          <a:xfrm flipH="1">
            <a:off x="2700000" y="1590840"/>
            <a:ext cx="11160" cy="396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23"/>
          <p:cNvSpPr/>
          <p:nvPr/>
        </p:nvSpPr>
        <p:spPr>
          <a:xfrm>
            <a:off x="662040" y="359568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24"/>
          <p:cNvSpPr/>
          <p:nvPr/>
        </p:nvSpPr>
        <p:spPr>
          <a:xfrm flipH="1">
            <a:off x="982800" y="3592440"/>
            <a:ext cx="1728720" cy="11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25"/>
          <p:cNvSpPr/>
          <p:nvPr/>
        </p:nvSpPr>
        <p:spPr>
          <a:xfrm>
            <a:off x="2700360" y="3573360"/>
            <a:ext cx="64764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26"/>
          <p:cNvSpPr/>
          <p:nvPr/>
        </p:nvSpPr>
        <p:spPr>
          <a:xfrm flipV="1">
            <a:off x="2700360" y="2133360"/>
            <a:ext cx="719280" cy="148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27"/>
          <p:cNvSpPr/>
          <p:nvPr/>
        </p:nvSpPr>
        <p:spPr>
          <a:xfrm>
            <a:off x="816120" y="2000160"/>
            <a:ext cx="18730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28"/>
          <p:cNvSpPr/>
          <p:nvPr/>
        </p:nvSpPr>
        <p:spPr>
          <a:xfrm>
            <a:off x="2805120" y="3168720"/>
            <a:ext cx="730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29"/>
          <p:cNvSpPr/>
          <p:nvPr/>
        </p:nvSpPr>
        <p:spPr>
          <a:xfrm>
            <a:off x="1220760" y="4498920"/>
            <a:ext cx="730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30"/>
          <p:cNvSpPr/>
          <p:nvPr/>
        </p:nvSpPr>
        <p:spPr>
          <a:xfrm>
            <a:off x="1585800" y="4243320"/>
            <a:ext cx="730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31"/>
          <p:cNvSpPr/>
          <p:nvPr/>
        </p:nvSpPr>
        <p:spPr>
          <a:xfrm>
            <a:off x="1946160" y="4005360"/>
            <a:ext cx="730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32"/>
          <p:cNvSpPr/>
          <p:nvPr/>
        </p:nvSpPr>
        <p:spPr>
          <a:xfrm>
            <a:off x="2295360" y="3755880"/>
            <a:ext cx="730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Line 33"/>
          <p:cNvSpPr/>
          <p:nvPr/>
        </p:nvSpPr>
        <p:spPr>
          <a:xfrm flipH="1">
            <a:off x="2301480" y="330192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34"/>
          <p:cNvSpPr/>
          <p:nvPr/>
        </p:nvSpPr>
        <p:spPr>
          <a:xfrm>
            <a:off x="2997360" y="2770200"/>
            <a:ext cx="727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Line 35"/>
          <p:cNvSpPr/>
          <p:nvPr/>
        </p:nvSpPr>
        <p:spPr>
          <a:xfrm>
            <a:off x="3192480" y="2398680"/>
            <a:ext cx="7308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Line 36"/>
          <p:cNvSpPr/>
          <p:nvPr/>
        </p:nvSpPr>
        <p:spPr>
          <a:xfrm flipH="1">
            <a:off x="3036600" y="3745080"/>
            <a:ext cx="7308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Line 37"/>
          <p:cNvSpPr/>
          <p:nvPr/>
        </p:nvSpPr>
        <p:spPr>
          <a:xfrm flipH="1">
            <a:off x="1979280" y="303048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38"/>
          <p:cNvSpPr/>
          <p:nvPr/>
        </p:nvSpPr>
        <p:spPr>
          <a:xfrm flipH="1">
            <a:off x="1658520" y="277020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Line 39"/>
          <p:cNvSpPr/>
          <p:nvPr/>
        </p:nvSpPr>
        <p:spPr>
          <a:xfrm flipH="1">
            <a:off x="1320480" y="248112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Line 40"/>
          <p:cNvSpPr/>
          <p:nvPr/>
        </p:nvSpPr>
        <p:spPr>
          <a:xfrm flipH="1">
            <a:off x="993240" y="2205000"/>
            <a:ext cx="73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41"/>
          <p:cNvSpPr/>
          <p:nvPr/>
        </p:nvSpPr>
        <p:spPr>
          <a:xfrm>
            <a:off x="4952880" y="45720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42"/>
          <p:cNvSpPr/>
          <p:nvPr/>
        </p:nvSpPr>
        <p:spPr>
          <a:xfrm>
            <a:off x="7777080" y="4572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43"/>
          <p:cNvSpPr/>
          <p:nvPr/>
        </p:nvSpPr>
        <p:spPr>
          <a:xfrm>
            <a:off x="4643280" y="26370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44"/>
          <p:cNvSpPr/>
          <p:nvPr/>
        </p:nvSpPr>
        <p:spPr>
          <a:xfrm>
            <a:off x="6629400" y="4572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观察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3" name=""/>
          <p:cNvGraphicFramePr/>
          <p:nvPr/>
        </p:nvGraphicFramePr>
        <p:xfrm>
          <a:off x="2124000" y="1628640"/>
          <a:ext cx="4896000" cy="2594160"/>
        </p:xfrm>
        <a:graphic>
          <a:graphicData uri="http://schemas.openxmlformats.org/drawingml/2006/table">
            <a:tbl>
              <a:tblPr/>
              <a:tblGrid>
                <a:gridCol w="816120"/>
                <a:gridCol w="815760"/>
                <a:gridCol w="816120"/>
                <a:gridCol w="814320"/>
                <a:gridCol w="816120"/>
                <a:gridCol w="81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4" name="灯片编号占位符 3"/>
          <p:cNvSpPr/>
          <p:nvPr/>
        </p:nvSpPr>
        <p:spPr>
          <a:xfrm>
            <a:off x="723600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  <a:ea typeface="宋体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9E9DAE8C-8343-482D-9C24-F87C5C07F3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3"/>
          <p:cNvSpPr/>
          <p:nvPr/>
        </p:nvSpPr>
        <p:spPr>
          <a:xfrm>
            <a:off x="1274400" y="609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数对表示位置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68"/>
          <p:cNvSpPr/>
          <p:nvPr/>
        </p:nvSpPr>
        <p:spPr>
          <a:xfrm>
            <a:off x="1693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69"/>
          <p:cNvSpPr/>
          <p:nvPr/>
        </p:nvSpPr>
        <p:spPr>
          <a:xfrm>
            <a:off x="2772720" y="429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70"/>
          <p:cNvSpPr/>
          <p:nvPr/>
        </p:nvSpPr>
        <p:spPr>
          <a:xfrm>
            <a:off x="1693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71"/>
          <p:cNvSpPr/>
          <p:nvPr/>
        </p:nvSpPr>
        <p:spPr>
          <a:xfrm>
            <a:off x="1693440" y="249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72"/>
          <p:cNvSpPr/>
          <p:nvPr/>
        </p:nvSpPr>
        <p:spPr>
          <a:xfrm>
            <a:off x="169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73"/>
          <p:cNvSpPr/>
          <p:nvPr/>
        </p:nvSpPr>
        <p:spPr>
          <a:xfrm>
            <a:off x="1693440" y="14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74"/>
          <p:cNvSpPr/>
          <p:nvPr/>
        </p:nvSpPr>
        <p:spPr>
          <a:xfrm>
            <a:off x="1693440" y="362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75"/>
          <p:cNvSpPr/>
          <p:nvPr/>
        </p:nvSpPr>
        <p:spPr>
          <a:xfrm>
            <a:off x="3587400" y="43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76"/>
          <p:cNvSpPr/>
          <p:nvPr/>
        </p:nvSpPr>
        <p:spPr>
          <a:xfrm>
            <a:off x="4348440" y="434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77"/>
          <p:cNvSpPr/>
          <p:nvPr/>
        </p:nvSpPr>
        <p:spPr>
          <a:xfrm>
            <a:off x="5250960" y="43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78"/>
          <p:cNvSpPr/>
          <p:nvPr/>
        </p:nvSpPr>
        <p:spPr>
          <a:xfrm>
            <a:off x="6089040" y="430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79"/>
          <p:cNvSpPr/>
          <p:nvPr/>
        </p:nvSpPr>
        <p:spPr>
          <a:xfrm>
            <a:off x="6874920" y="42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80"/>
          <p:cNvSpPr/>
          <p:nvPr/>
        </p:nvSpPr>
        <p:spPr>
          <a:xfrm>
            <a:off x="205092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Oval 81"/>
          <p:cNvSpPr/>
          <p:nvPr/>
        </p:nvSpPr>
        <p:spPr>
          <a:xfrm>
            <a:off x="6937200" y="4121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Oval 82"/>
          <p:cNvSpPr/>
          <p:nvPr/>
        </p:nvSpPr>
        <p:spPr>
          <a:xfrm>
            <a:off x="2038320" y="156852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Oval 83"/>
          <p:cNvSpPr/>
          <p:nvPr/>
        </p:nvSpPr>
        <p:spPr>
          <a:xfrm>
            <a:off x="4473720" y="2548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Oval 84"/>
          <p:cNvSpPr/>
          <p:nvPr/>
        </p:nvSpPr>
        <p:spPr>
          <a:xfrm>
            <a:off x="5292720" y="3645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Oval 85"/>
          <p:cNvSpPr/>
          <p:nvPr/>
        </p:nvSpPr>
        <p:spPr>
          <a:xfrm>
            <a:off x="2916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Oval 86"/>
          <p:cNvSpPr/>
          <p:nvPr/>
        </p:nvSpPr>
        <p:spPr>
          <a:xfrm>
            <a:off x="6124680" y="21099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87"/>
          <p:cNvSpPr/>
          <p:nvPr/>
        </p:nvSpPr>
        <p:spPr>
          <a:xfrm>
            <a:off x="2273400" y="3971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商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88"/>
          <p:cNvSpPr/>
          <p:nvPr/>
        </p:nvSpPr>
        <p:spPr>
          <a:xfrm>
            <a:off x="3060720" y="285444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邮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89"/>
          <p:cNvSpPr/>
          <p:nvPr/>
        </p:nvSpPr>
        <p:spPr>
          <a:xfrm>
            <a:off x="2187720" y="17272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图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90"/>
          <p:cNvSpPr/>
          <p:nvPr/>
        </p:nvSpPr>
        <p:spPr>
          <a:xfrm>
            <a:off x="4624560" y="232092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91"/>
          <p:cNvSpPr/>
          <p:nvPr/>
        </p:nvSpPr>
        <p:spPr>
          <a:xfrm>
            <a:off x="5364000" y="371808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公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92"/>
          <p:cNvSpPr/>
          <p:nvPr/>
        </p:nvSpPr>
        <p:spPr>
          <a:xfrm>
            <a:off x="6705720" y="36576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银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93"/>
          <p:cNvSpPr/>
          <p:nvPr/>
        </p:nvSpPr>
        <p:spPr>
          <a:xfrm>
            <a:off x="6261120" y="225756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饭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94"/>
          <p:cNvSpPr/>
          <p:nvPr/>
        </p:nvSpPr>
        <p:spPr>
          <a:xfrm>
            <a:off x="457200" y="4800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商店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0,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      邮局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1,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      学校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3,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      图书馆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0,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公园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4,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      饭店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5,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      银行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6,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1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1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Text Box 4"/>
          <p:cNvSpPr/>
          <p:nvPr/>
        </p:nvSpPr>
        <p:spPr>
          <a:xfrm>
            <a:off x="32400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一说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行走路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Line 5"/>
          <p:cNvSpPr/>
          <p:nvPr/>
        </p:nvSpPr>
        <p:spPr>
          <a:xfrm>
            <a:off x="1187280" y="2779560"/>
            <a:ext cx="115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Line 6"/>
          <p:cNvSpPr/>
          <p:nvPr/>
        </p:nvSpPr>
        <p:spPr>
          <a:xfrm flipV="1">
            <a:off x="2336760" y="1773000"/>
            <a:ext cx="3240" cy="10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Line 7"/>
          <p:cNvSpPr/>
          <p:nvPr/>
        </p:nvSpPr>
        <p:spPr>
          <a:xfrm>
            <a:off x="2338560" y="1771560"/>
            <a:ext cx="936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Line 8"/>
          <p:cNvSpPr/>
          <p:nvPr/>
        </p:nvSpPr>
        <p:spPr>
          <a:xfrm flipV="1">
            <a:off x="3274920" y="1196640"/>
            <a:ext cx="158436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Line 9"/>
          <p:cNvSpPr/>
          <p:nvPr/>
        </p:nvSpPr>
        <p:spPr>
          <a:xfrm>
            <a:off x="4857840" y="1197000"/>
            <a:ext cx="245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Line 10"/>
          <p:cNvSpPr/>
          <p:nvPr/>
        </p:nvSpPr>
        <p:spPr>
          <a:xfrm>
            <a:off x="7307280" y="1197000"/>
            <a:ext cx="0" cy="16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Oval 12"/>
          <p:cNvSpPr/>
          <p:nvPr/>
        </p:nvSpPr>
        <p:spPr>
          <a:xfrm>
            <a:off x="1116000" y="270972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Oval 13"/>
          <p:cNvSpPr/>
          <p:nvPr/>
        </p:nvSpPr>
        <p:spPr>
          <a:xfrm>
            <a:off x="7236000" y="270972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Oval 14"/>
          <p:cNvSpPr/>
          <p:nvPr/>
        </p:nvSpPr>
        <p:spPr>
          <a:xfrm>
            <a:off x="7236000" y="112536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Oval 15"/>
          <p:cNvSpPr/>
          <p:nvPr/>
        </p:nvSpPr>
        <p:spPr>
          <a:xfrm>
            <a:off x="4788000" y="1125360"/>
            <a:ext cx="1443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Oval 16"/>
          <p:cNvSpPr/>
          <p:nvPr/>
        </p:nvSpPr>
        <p:spPr>
          <a:xfrm>
            <a:off x="3203640" y="2276640"/>
            <a:ext cx="14436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Oval 17"/>
          <p:cNvSpPr/>
          <p:nvPr/>
        </p:nvSpPr>
        <p:spPr>
          <a:xfrm>
            <a:off x="2268360" y="1701720"/>
            <a:ext cx="1447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Oval 18"/>
          <p:cNvSpPr/>
          <p:nvPr/>
        </p:nvSpPr>
        <p:spPr>
          <a:xfrm>
            <a:off x="2268360" y="2709720"/>
            <a:ext cx="1447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20"/>
          <p:cNvSpPr/>
          <p:nvPr/>
        </p:nvSpPr>
        <p:spPr>
          <a:xfrm>
            <a:off x="971640" y="27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21"/>
          <p:cNvSpPr/>
          <p:nvPr/>
        </p:nvSpPr>
        <p:spPr>
          <a:xfrm>
            <a:off x="2122560" y="119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22"/>
          <p:cNvSpPr/>
          <p:nvPr/>
        </p:nvSpPr>
        <p:spPr>
          <a:xfrm>
            <a:off x="2122560" y="2765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23"/>
          <p:cNvSpPr/>
          <p:nvPr/>
        </p:nvSpPr>
        <p:spPr>
          <a:xfrm>
            <a:off x="4645080" y="119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24"/>
          <p:cNvSpPr/>
          <p:nvPr/>
        </p:nvSpPr>
        <p:spPr>
          <a:xfrm>
            <a:off x="3059280" y="22924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Text Box 25"/>
          <p:cNvSpPr/>
          <p:nvPr/>
        </p:nvSpPr>
        <p:spPr>
          <a:xfrm>
            <a:off x="7091280" y="2765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26"/>
          <p:cNvSpPr/>
          <p:nvPr/>
        </p:nvSpPr>
        <p:spPr>
          <a:xfrm>
            <a:off x="7164360" y="62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AutoShape 27"/>
          <p:cNvSpPr/>
          <p:nvPr/>
        </p:nvSpPr>
        <p:spPr>
          <a:xfrm>
            <a:off x="8028000" y="907920"/>
            <a:ext cx="504720" cy="792360"/>
          </a:xfrm>
          <a:prstGeom prst="flowChartSor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AutoShape 28"/>
          <p:cNvSpPr/>
          <p:nvPr/>
        </p:nvSpPr>
        <p:spPr>
          <a:xfrm>
            <a:off x="8028000" y="907920"/>
            <a:ext cx="504720" cy="433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29"/>
          <p:cNvSpPr/>
          <p:nvPr/>
        </p:nvSpPr>
        <p:spPr>
          <a:xfrm>
            <a:off x="8245440" y="33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30"/>
          <p:cNvSpPr/>
          <p:nvPr/>
        </p:nvSpPr>
        <p:spPr>
          <a:xfrm>
            <a:off x="179280" y="357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向正东方向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31"/>
          <p:cNvSpPr/>
          <p:nvPr/>
        </p:nvSpPr>
        <p:spPr>
          <a:xfrm>
            <a:off x="4643280" y="357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向正北方向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32"/>
          <p:cNvSpPr/>
          <p:nvPr/>
        </p:nvSpPr>
        <p:spPr>
          <a:xfrm>
            <a:off x="395280" y="4349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东南方向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Text Box 34"/>
          <p:cNvSpPr/>
          <p:nvPr/>
        </p:nvSpPr>
        <p:spPr>
          <a:xfrm>
            <a:off x="4643280" y="434988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东北方向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35"/>
          <p:cNvSpPr/>
          <p:nvPr/>
        </p:nvSpPr>
        <p:spPr>
          <a:xfrm>
            <a:off x="395280" y="52149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向正东方向走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36"/>
          <p:cNvSpPr/>
          <p:nvPr/>
        </p:nvSpPr>
        <p:spPr>
          <a:xfrm>
            <a:off x="4464000" y="52149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向正南方向走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37"/>
          <p:cNvSpPr/>
          <p:nvPr/>
        </p:nvSpPr>
        <p:spPr>
          <a:xfrm>
            <a:off x="1184400" y="2781360"/>
            <a:ext cx="1155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Oval 38"/>
          <p:cNvSpPr/>
          <p:nvPr/>
        </p:nvSpPr>
        <p:spPr>
          <a:xfrm>
            <a:off x="1116000" y="27115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Oval 39"/>
          <p:cNvSpPr/>
          <p:nvPr/>
        </p:nvSpPr>
        <p:spPr>
          <a:xfrm>
            <a:off x="2268360" y="271152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40"/>
          <p:cNvSpPr/>
          <p:nvPr/>
        </p:nvSpPr>
        <p:spPr>
          <a:xfrm>
            <a:off x="973080" y="27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41"/>
          <p:cNvSpPr/>
          <p:nvPr/>
        </p:nvSpPr>
        <p:spPr>
          <a:xfrm>
            <a:off x="2124000" y="2765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Line 42"/>
          <p:cNvSpPr/>
          <p:nvPr/>
        </p:nvSpPr>
        <p:spPr>
          <a:xfrm flipV="1">
            <a:off x="2336760" y="1773360"/>
            <a:ext cx="324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Oval 43"/>
          <p:cNvSpPr/>
          <p:nvPr/>
        </p:nvSpPr>
        <p:spPr>
          <a:xfrm>
            <a:off x="2268360" y="170028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 Box 44"/>
          <p:cNvSpPr/>
          <p:nvPr/>
        </p:nvSpPr>
        <p:spPr>
          <a:xfrm>
            <a:off x="2124000" y="119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45"/>
          <p:cNvSpPr/>
          <p:nvPr/>
        </p:nvSpPr>
        <p:spPr>
          <a:xfrm>
            <a:off x="2336760" y="1768320"/>
            <a:ext cx="939960" cy="581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Oval 46"/>
          <p:cNvSpPr/>
          <p:nvPr/>
        </p:nvSpPr>
        <p:spPr>
          <a:xfrm>
            <a:off x="3203640" y="227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 Box 48"/>
          <p:cNvSpPr/>
          <p:nvPr/>
        </p:nvSpPr>
        <p:spPr>
          <a:xfrm>
            <a:off x="30592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Line 49"/>
          <p:cNvSpPr/>
          <p:nvPr/>
        </p:nvSpPr>
        <p:spPr>
          <a:xfrm flipV="1">
            <a:off x="3276720" y="1198080"/>
            <a:ext cx="1584360" cy="115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Oval 50"/>
          <p:cNvSpPr/>
          <p:nvPr/>
        </p:nvSpPr>
        <p:spPr>
          <a:xfrm>
            <a:off x="4789440" y="112716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 Box 51"/>
          <p:cNvSpPr/>
          <p:nvPr/>
        </p:nvSpPr>
        <p:spPr>
          <a:xfrm>
            <a:off x="4643280" y="119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52"/>
          <p:cNvSpPr/>
          <p:nvPr/>
        </p:nvSpPr>
        <p:spPr>
          <a:xfrm>
            <a:off x="4859280" y="1197000"/>
            <a:ext cx="2444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Oval 53"/>
          <p:cNvSpPr/>
          <p:nvPr/>
        </p:nvSpPr>
        <p:spPr>
          <a:xfrm>
            <a:off x="7234200" y="112536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 Box 54"/>
          <p:cNvSpPr/>
          <p:nvPr/>
        </p:nvSpPr>
        <p:spPr>
          <a:xfrm>
            <a:off x="7164360" y="62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55"/>
          <p:cNvSpPr/>
          <p:nvPr/>
        </p:nvSpPr>
        <p:spPr>
          <a:xfrm>
            <a:off x="7307280" y="1197000"/>
            <a:ext cx="0" cy="165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Oval 56"/>
          <p:cNvSpPr/>
          <p:nvPr/>
        </p:nvSpPr>
        <p:spPr>
          <a:xfrm>
            <a:off x="7236000" y="2709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57"/>
          <p:cNvSpPr/>
          <p:nvPr/>
        </p:nvSpPr>
        <p:spPr>
          <a:xfrm>
            <a:off x="7093080" y="2765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3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Text Box 4"/>
          <p:cNvSpPr/>
          <p:nvPr/>
        </p:nvSpPr>
        <p:spPr>
          <a:xfrm>
            <a:off x="250920" y="1159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一画，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5" name=""/>
          <p:cNvGraphicFramePr/>
          <p:nvPr/>
        </p:nvGraphicFramePr>
        <p:xfrm>
          <a:off x="1547640" y="909720"/>
          <a:ext cx="6048720" cy="3456000"/>
        </p:xfrm>
        <a:graphic>
          <a:graphicData uri="http://schemas.openxmlformats.org/drawingml/2006/table">
            <a:tbl>
              <a:tblPr/>
              <a:tblGrid>
                <a:gridCol w="1209960"/>
                <a:gridCol w="1209600"/>
                <a:gridCol w="1209600"/>
                <a:gridCol w="1209600"/>
                <a:gridCol w="120996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6" name="AutoShape 44"/>
          <p:cNvSpPr/>
          <p:nvPr/>
        </p:nvSpPr>
        <p:spPr>
          <a:xfrm>
            <a:off x="1763640" y="981000"/>
            <a:ext cx="647640" cy="505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46"/>
          <p:cNvSpPr/>
          <p:nvPr/>
        </p:nvSpPr>
        <p:spPr>
          <a:xfrm flipV="1">
            <a:off x="8172360" y="765000"/>
            <a:ext cx="0" cy="14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47"/>
          <p:cNvSpPr/>
          <p:nvPr/>
        </p:nvSpPr>
        <p:spPr>
          <a:xfrm>
            <a:off x="8172360" y="5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Text Box 48"/>
          <p:cNvSpPr/>
          <p:nvPr/>
        </p:nvSpPr>
        <p:spPr>
          <a:xfrm>
            <a:off x="395280" y="4508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向东走两格，再向南走两格，画出移动后的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在移动后的     的（      ）方向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Oval 49"/>
          <p:cNvSpPr/>
          <p:nvPr/>
        </p:nvSpPr>
        <p:spPr>
          <a:xfrm>
            <a:off x="3059280" y="2421000"/>
            <a:ext cx="50472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AutoShape 51"/>
          <p:cNvSpPr/>
          <p:nvPr/>
        </p:nvSpPr>
        <p:spPr>
          <a:xfrm>
            <a:off x="1476360" y="6021360"/>
            <a:ext cx="504720" cy="36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Oval 52"/>
          <p:cNvSpPr/>
          <p:nvPr/>
        </p:nvSpPr>
        <p:spPr>
          <a:xfrm>
            <a:off x="4427640" y="6021360"/>
            <a:ext cx="50472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Oval 53"/>
          <p:cNvSpPr/>
          <p:nvPr/>
        </p:nvSpPr>
        <p:spPr>
          <a:xfrm>
            <a:off x="1476360" y="4653000"/>
            <a:ext cx="50472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5506920" y="3789360"/>
            <a:ext cx="505080" cy="43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55"/>
          <p:cNvSpPr/>
          <p:nvPr/>
        </p:nvSpPr>
        <p:spPr>
          <a:xfrm>
            <a:off x="5724360" y="587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48:19Z</dcterms:created>
  <dc:creator/>
  <dc:description/>
  <dc:language>en-US</dc:language>
  <cp:lastModifiedBy/>
  <dcterms:modified xsi:type="dcterms:W3CDTF">2015-04-08T11:48:24Z</dcterms:modified>
  <cp:revision>1</cp:revision>
  <dc:subject/>
  <dc:title/>
</cp:coreProperties>
</file>